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640080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cGrawHill-Italic"/>
              </a:rPr>
              <a:t>McGraw-H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419720" y="640080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cGrawHill-Italic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cGrawHill-Italic"/>
              </a:rPr>
              <a:t>The McGraw-Hill Companies, Inc.,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31120" y="219240"/>
            <a:ext cx="196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256760" y="2438280"/>
            <a:ext cx="602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0066"/>
                </a:solidFill>
                <a:latin typeface="Times New Roman"/>
              </a:rPr>
              <a:t>Introductio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452320" y="587520"/>
            <a:ext cx="425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ategories of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82821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215960" y="380880"/>
            <a:ext cx="104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32040" y="1523880"/>
            <a:ext cx="767844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215960" y="380880"/>
            <a:ext cx="11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58680" y="1816200"/>
            <a:ext cx="696600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15960" y="3808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33360" y="1771560"/>
            <a:ext cx="847728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-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04600" y="228600"/>
            <a:ext cx="251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ternetwork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Intern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1743120"/>
            <a:ext cx="84204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-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69280" y="152280"/>
            <a:ext cx="4208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lient/Server Model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ith Dedicated Serv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1728720"/>
            <a:ext cx="6791400" cy="40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-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66840" y="152280"/>
            <a:ext cx="401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lient/Server Model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ith a General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609768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60" y="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-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81760" y="380880"/>
            <a:ext cx="358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eer-to-Peer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66760" y="1719360"/>
            <a:ext cx="861048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5T04:50:39Z</dcterms:created>
  <dc:creator>Valued Gateway Client</dc:creator>
  <dc:description/>
  <dc:language>en-US</dc:language>
  <cp:lastModifiedBy>Valued Gateway Client</cp:lastModifiedBy>
  <dcterms:modified xsi:type="dcterms:W3CDTF">2002-03-09T17:58:21Z</dcterms:modified>
  <cp:revision>26</cp:revision>
  <dc:subject/>
  <dc:title>PowerPoint Presentation</dc:title>
</cp:coreProperties>
</file>