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28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6400800"/>
            <a:ext cx="2210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McGrawHill-Italic"/>
              </a:rPr>
              <a:t>McGraw-Hi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4419720" y="6400800"/>
            <a:ext cx="457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McGrawHill-Italic"/>
              <a:buChar char="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McGrawHill-Italic"/>
              </a:rPr>
              <a:t>The McGraw-Hill Companies, Inc., 200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231120" y="219240"/>
            <a:ext cx="196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apter 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1575720" y="1828800"/>
            <a:ext cx="62049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800" spc="-1" strike="noStrike">
                <a:solidFill>
                  <a:srgbClr val="ff0066"/>
                </a:solidFill>
                <a:latin typeface="Times New Roman"/>
              </a:rPr>
              <a:t>Data 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800" spc="-1" strike="noStrike">
                <a:solidFill>
                  <a:srgbClr val="ff0066"/>
                </a:solidFill>
                <a:latin typeface="Times New Roman"/>
              </a:rPr>
              <a:t>Transmission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60" y="0"/>
            <a:ext cx="119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 3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609480" y="961920"/>
            <a:ext cx="7486920" cy="543888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1671840" y="152280"/>
            <a:ext cx="566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A Signal with a DC Compon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720" y="0"/>
            <a:ext cx="130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 3-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19240" y="2133720"/>
            <a:ext cx="8619840" cy="327636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3124440" y="411120"/>
            <a:ext cx="210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Bandwid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720" y="0"/>
            <a:ext cx="130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 3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124080" y="411120"/>
            <a:ext cx="234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Line Co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42960" y="2363760"/>
            <a:ext cx="7815240" cy="17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20" y="0"/>
            <a:ext cx="130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 3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315920" y="1662120"/>
            <a:ext cx="13924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Signa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Level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ersu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Dat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Lev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422360" y="285840"/>
            <a:ext cx="5283360" cy="62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720" y="0"/>
            <a:ext cx="130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 3-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153840" y="76320"/>
            <a:ext cx="306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DC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785880" y="755640"/>
            <a:ext cx="6645240" cy="564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720" y="0"/>
            <a:ext cx="130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 3-1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206080" y="152280"/>
            <a:ext cx="445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Lack of Synchron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98720" y="1066680"/>
            <a:ext cx="621648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720" y="0"/>
            <a:ext cx="130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 3-1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3520" y="411120"/>
            <a:ext cx="393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Line Coding Sche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636480" y="2409840"/>
            <a:ext cx="7898040" cy="20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720" y="0"/>
            <a:ext cx="130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 3-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241200" y="2362320"/>
            <a:ext cx="8902800" cy="29210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2756160" y="609480"/>
            <a:ext cx="349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Unipolar Enco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720" y="0"/>
            <a:ext cx="130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 3-1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228600" y="1905120"/>
            <a:ext cx="8793000" cy="322092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358720" y="716040"/>
            <a:ext cx="446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Types of Polar Enco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720" y="0"/>
            <a:ext cx="130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 3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581040" y="968400"/>
            <a:ext cx="7953480" cy="550872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3047760" y="152280"/>
            <a:ext cx="240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NRZ Co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360" y="0"/>
            <a:ext cx="119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 3-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3122280" y="411120"/>
            <a:ext cx="294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A Digital Sig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168560" y="2297160"/>
            <a:ext cx="6805440" cy="22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720" y="0"/>
            <a:ext cx="124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3-1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220760" y="1643040"/>
            <a:ext cx="6856560" cy="399564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3048120" y="304920"/>
            <a:ext cx="211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RZ Co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720" y="0"/>
            <a:ext cx="130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 3-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533520" y="1106640"/>
            <a:ext cx="7934040" cy="544644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1213560" y="76320"/>
            <a:ext cx="779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Manchester and Diff. Manchester Enco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720" y="0"/>
            <a:ext cx="130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 3-2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666720" y="641520"/>
            <a:ext cx="6572160" cy="58356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6476400" y="228600"/>
            <a:ext cx="254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Block Co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720" y="0"/>
            <a:ext cx="130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 3-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902240" y="304920"/>
            <a:ext cx="520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Substitution in Block Co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482840" y="1271520"/>
            <a:ext cx="617832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720" y="0"/>
            <a:ext cx="130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 3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533520" y="1447920"/>
            <a:ext cx="8070840" cy="399564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3810240" y="76320"/>
            <a:ext cx="182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Sampl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720" y="0"/>
            <a:ext cx="130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 3-2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685800" y="1523880"/>
            <a:ext cx="8026560" cy="393876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3438000" y="411120"/>
            <a:ext cx="212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Quantiz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60" y="0"/>
            <a:ext cx="123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3.2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28600" y="2378160"/>
            <a:ext cx="8693280" cy="265104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1833840" y="639720"/>
            <a:ext cx="560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Converting to Binary Numb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720" y="0"/>
            <a:ext cx="130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 3-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380880" y="1619280"/>
            <a:ext cx="8474040" cy="47052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2818800" y="152280"/>
            <a:ext cx="322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Nyquist Theor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720" y="0"/>
            <a:ext cx="130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 3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053000" y="563400"/>
            <a:ext cx="792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Categories of Modulation by a Digital Sig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468360" y="2138400"/>
            <a:ext cx="8447040" cy="32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720" y="0"/>
            <a:ext cx="130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 3-2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679320" y="1295280"/>
            <a:ext cx="7550280" cy="4111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3705840" y="411120"/>
            <a:ext cx="101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AS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11280" y="411120"/>
            <a:ext cx="450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Bit Rate and Bit Interv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60" y="0"/>
            <a:ext cx="119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 3-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698400" y="1501920"/>
            <a:ext cx="7745400" cy="385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720" y="0"/>
            <a:ext cx="130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 3-2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685800" y="1143000"/>
            <a:ext cx="7550280" cy="411156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3810600" y="41112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FS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720" y="0"/>
            <a:ext cx="130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 3-3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62080" y="933480"/>
            <a:ext cx="8501040" cy="462924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3751920" y="48744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PS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720" y="0"/>
            <a:ext cx="130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 3-3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57200" y="1523880"/>
            <a:ext cx="7961400" cy="463248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214640" y="716040"/>
            <a:ext cx="581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Time Domain for 8-QAM Sig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720" y="0"/>
            <a:ext cx="130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 3-3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380880" y="1701720"/>
            <a:ext cx="8447040" cy="447048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1207440" y="487440"/>
            <a:ext cx="656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Multiplexing versus No Multiplex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720" y="0"/>
            <a:ext cx="130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 3-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194560" y="587520"/>
            <a:ext cx="481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Categories of Multiplex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438120" y="2190600"/>
            <a:ext cx="8400960" cy="26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720" y="0"/>
            <a:ext cx="130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 3-3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533520" y="1981080"/>
            <a:ext cx="8007120" cy="276408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3996720" y="587520"/>
            <a:ext cx="110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FD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720" y="0"/>
            <a:ext cx="130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 3-3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8043840" cy="357516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782640" y="716040"/>
            <a:ext cx="745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FDM Multiplexing Process, Time Doma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720" y="0"/>
            <a:ext cx="130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 3-3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380880" y="1582560"/>
            <a:ext cx="8126640" cy="336420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3745080" y="716040"/>
            <a:ext cx="113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TD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720" y="0"/>
            <a:ext cx="130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 3-3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907720" y="334800"/>
            <a:ext cx="349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Synchronous TD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630360" y="2343240"/>
            <a:ext cx="8208720" cy="25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720" y="0"/>
            <a:ext cx="130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 3-3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76040" y="2743200"/>
            <a:ext cx="8510760" cy="218268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3123720" y="487440"/>
            <a:ext cx="247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Framing Bi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60" y="0"/>
            <a:ext cx="119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 3-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1920" y="411120"/>
            <a:ext cx="3234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An Analog Sig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549440" y="2235240"/>
            <a:ext cx="6045120" cy="238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720" y="0"/>
            <a:ext cx="130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 3-3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123360" y="487440"/>
            <a:ext cx="372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Asynchronous TD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685800" y="2438280"/>
            <a:ext cx="7924680" cy="253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60" y="0"/>
            <a:ext cx="119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 3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04920" y="2173320"/>
            <a:ext cx="8062920" cy="20178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124080" y="41112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123360" y="411120"/>
            <a:ext cx="242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A Sine Wa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60" y="0"/>
            <a:ext cx="119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 3-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57200" y="1295280"/>
            <a:ext cx="8190000" cy="37353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250080" y="411120"/>
            <a:ext cx="203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Amplitu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60" y="0"/>
            <a:ext cx="119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 3-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96800" y="1905120"/>
            <a:ext cx="8190000" cy="34700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2588400" y="411120"/>
            <a:ext cx="404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Period and Frequ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60" y="0"/>
            <a:ext cx="119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 3-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442880" y="152280"/>
            <a:ext cx="686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Relationship between Different Pha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623880" y="2125800"/>
            <a:ext cx="8062920" cy="259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60" y="0"/>
            <a:ext cx="119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 3-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355680" y="1143000"/>
            <a:ext cx="8483400" cy="38782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1902240" y="380880"/>
            <a:ext cx="543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Time and Frequency Domai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15T04:50:39Z</dcterms:created>
  <dc:creator>Valued Gateway Client</dc:creator>
  <dc:description/>
  <dc:language>en-US</dc:language>
  <cp:lastModifiedBy>Valued Gateway Client</cp:lastModifiedBy>
  <dcterms:modified xsi:type="dcterms:W3CDTF">2002-03-09T17:59:51Z</dcterms:modified>
  <cp:revision>36</cp:revision>
  <dc:subject/>
  <dc:title>PowerPoint Presentation</dc:title>
</cp:coreProperties>
</file>