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04080" y="1940040"/>
            <a:ext cx="645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Transmiss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Medi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040" y="1938240"/>
            <a:ext cx="8702640" cy="40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98560" y="304920"/>
            <a:ext cx="35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ber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3640" y="1120680"/>
            <a:ext cx="8245440" cy="5280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82440" y="152280"/>
            <a:ext cx="51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dio Communication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38240" y="1012680"/>
            <a:ext cx="6810480" cy="538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47280" y="152280"/>
            <a:ext cx="39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5200" y="3022560"/>
            <a:ext cx="839160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63160" y="79200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V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483400" cy="94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09320" y="79200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7440" y="3022560"/>
            <a:ext cx="8427960" cy="93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52080" y="79200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840" y="2717640"/>
            <a:ext cx="8400960" cy="939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86280" y="79200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501040" cy="1846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40120" y="792000"/>
            <a:ext cx="48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V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427960" cy="178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40120" y="792000"/>
            <a:ext cx="48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U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372520" cy="86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73600" y="79200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S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043840" cy="237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0760" y="228600"/>
            <a:ext cx="48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lectromagnetic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464680" cy="868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51640" y="79200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quency Range for E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501040" cy="238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94720" y="79200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rrestrial Micro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8960" y="1322280"/>
            <a:ext cx="8520120" cy="431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6880" y="228600"/>
            <a:ext cx="44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ellit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5680" y="1235160"/>
            <a:ext cx="5941800" cy="524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15880" y="15228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ellite in Geosynchronous Or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897680" cy="208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71200" y="792000"/>
            <a:ext cx="34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airm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3200" y="2338560"/>
            <a:ext cx="7632720" cy="352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329640" y="79200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ten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320" y="2387520"/>
            <a:ext cx="8940600" cy="271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89680" y="79200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4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9120" y="2584440"/>
            <a:ext cx="8666280" cy="1911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87320" y="79200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t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1840" y="2133720"/>
            <a:ext cx="8683560" cy="3087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44000" y="79200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24600" cy="3243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01920" y="792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62920" cy="227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67880" y="22860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sses of Transmission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656560" cy="3311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1040" y="53352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paga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38240" y="2060640"/>
            <a:ext cx="7039080" cy="220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4040" y="22860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Guided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272440" cy="323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4000" y="22860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wisted-Pair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68356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78840" y="228600"/>
            <a:ext cx="51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ielded Twisted-Pair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6680" y="1754280"/>
            <a:ext cx="8520120" cy="403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24080" y="22860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axial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18440" cy="3426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18600" y="228600"/>
            <a:ext cx="46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fraction and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4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35000" y="1219320"/>
            <a:ext cx="6966000" cy="1346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3048120"/>
            <a:ext cx="6946920" cy="13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7320" y="4897440"/>
            <a:ext cx="6562800" cy="135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88040" y="1522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pagation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8:00:41Z</dcterms:modified>
  <cp:revision>33</cp:revision>
  <dc:subject/>
  <dc:title>PowerPoint Presentation</dc:title>
</cp:coreProperties>
</file>