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64008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19720" y="64008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8640" y="76320"/>
            <a:ext cx="19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518200" y="1892160"/>
            <a:ext cx="4586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Error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Detectio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5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43200" y="260280"/>
            <a:ext cx="6243480" cy="6292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4520" y="808200"/>
            <a:ext cx="2977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inary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RC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5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09640" y="246240"/>
            <a:ext cx="7358040" cy="6154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5240" y="1417680"/>
            <a:ext cx="2907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inary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RC Chec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5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24240" y="304920"/>
            <a:ext cx="25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Poly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55640" y="2424240"/>
            <a:ext cx="763128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5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94440" y="457200"/>
            <a:ext cx="66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Polynomial Representing a Divi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739960" y="1717560"/>
            <a:ext cx="36640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5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0320" y="334800"/>
            <a:ext cx="40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andard Polynom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31852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5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632720" cy="237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48680" y="304920"/>
            <a:ext cx="29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ypes of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5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245440" cy="1741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24640" y="716040"/>
            <a:ext cx="30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ngle-Bit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5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1793880"/>
            <a:ext cx="7413840" cy="3616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2400" y="457200"/>
            <a:ext cx="49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Error of Length F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5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2200" y="1263600"/>
            <a:ext cx="8593200" cy="5060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17840" y="152280"/>
            <a:ext cx="23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dund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5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7720" y="685800"/>
            <a:ext cx="344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tec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200" y="2486160"/>
            <a:ext cx="888552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5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20680" y="1784520"/>
            <a:ext cx="7413840" cy="4464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58360" y="30492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ven Parity VRC Con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5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2000" y="1471680"/>
            <a:ext cx="8372520" cy="4852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11040" y="30492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5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2233440"/>
            <a:ext cx="8510760" cy="3176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00800" y="716040"/>
            <a:ext cx="53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RC Generator and Chec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Valued Gateway Client</cp:lastModifiedBy>
  <dcterms:modified xsi:type="dcterms:W3CDTF">2002-03-09T18:03:29Z</dcterms:modified>
  <cp:revision>29</cp:revision>
  <dc:subject/>
  <dc:title>PowerPoint Presentation</dc:title>
</cp:coreProperties>
</file>