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26708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The McGraw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640080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19720" y="64008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78480" y="76320"/>
            <a:ext cx="19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947240" y="1295280"/>
            <a:ext cx="5211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LAN</a:t>
            </a:r>
            <a:br>
              <a:rPr sz="8800"/>
            </a:b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Topologie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6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25440" y="380880"/>
            <a:ext cx="29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terface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55720" y="1930320"/>
            <a:ext cx="74311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6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97600" y="38088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sten M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041560" y="1077840"/>
            <a:ext cx="505944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6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304920"/>
            <a:ext cx="29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ransmit M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65320" y="1319040"/>
            <a:ext cx="5011920" cy="47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6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720" y="304920"/>
            <a:ext cx="23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ypass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050920" y="2481120"/>
            <a:ext cx="50403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6-12,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34080" y="304920"/>
            <a:ext cx="49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moval by the Dest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05120" y="1776240"/>
            <a:ext cx="501156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6-12,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4080" y="304920"/>
            <a:ext cx="49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moval by the Dest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65320" y="1776240"/>
            <a:ext cx="501192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360" y="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6-12,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4080" y="533520"/>
            <a:ext cx="49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moval by the Dest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76520" y="1700280"/>
            <a:ext cx="539100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6-13,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1360" y="304920"/>
            <a:ext cx="419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moval by the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52480" y="1547640"/>
            <a:ext cx="501192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6-13,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1360" y="304920"/>
            <a:ext cx="419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moval by the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52480" y="1547640"/>
            <a:ext cx="501192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360" y="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6-13,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11360" y="304920"/>
            <a:ext cx="419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moval by the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01156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6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0160" y="587520"/>
            <a:ext cx="51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tegories of LAN Top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44600" y="2533680"/>
            <a:ext cx="645480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6-13,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05160" y="106200"/>
            <a:ext cx="419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moval by the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7920" y="785880"/>
            <a:ext cx="504648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6-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66640" y="76320"/>
            <a:ext cx="26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ar Top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93720" y="1057320"/>
            <a:ext cx="76881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6-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56280" y="0"/>
            <a:ext cx="56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sing a Hub in a Star Top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2520" y="950760"/>
            <a:ext cx="7970760" cy="55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6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1840" y="152280"/>
            <a:ext cx="608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sing a Switch in a Star Top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93560" y="1574640"/>
            <a:ext cx="7888320" cy="37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6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99400" y="380880"/>
            <a:ext cx="25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s Top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2327400"/>
            <a:ext cx="838188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360" y="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6-3, a an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39600" y="58752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s Topology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0560" y="1828800"/>
            <a:ext cx="78613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360" y="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6-3, c and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39600" y="30492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s Topology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3120" y="1523880"/>
            <a:ext cx="7961400" cy="46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6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3320" y="58752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idirectional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1554120"/>
            <a:ext cx="759600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6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2600" y="587520"/>
            <a:ext cx="580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roadband Transmission Using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wo Frequencies, One 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745020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6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2600" y="228600"/>
            <a:ext cx="580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roadband Transmission Using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ne Frequency, Two B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1680" y="1916280"/>
            <a:ext cx="8080200" cy="44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6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380880"/>
            <a:ext cx="275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ing Top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74600" y="1143000"/>
            <a:ext cx="72313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McGraw-Hill Higher Education</cp:lastModifiedBy>
  <dcterms:modified xsi:type="dcterms:W3CDTF">2003-05-05T20:29:10Z</dcterms:modified>
  <cp:revision>36</cp:revision>
  <dc:subject/>
  <dc:title>PowerPoint Presentation</dc:title>
</cp:coreProperties>
</file>