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667160" y="1635120"/>
            <a:ext cx="514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Data Link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Contro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2160" y="152280"/>
            <a:ext cx="59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-and-Wait ARQ, Los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6800" y="1625760"/>
            <a:ext cx="7732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2520" y="152280"/>
            <a:ext cx="57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-and-Wait ARQ, Lost 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4120" y="1612800"/>
            <a:ext cx="78804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15228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o-Back-n, Damaged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106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72760" y="152280"/>
            <a:ext cx="44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o-Back-n, Lost 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30480" y="1295280"/>
            <a:ext cx="70754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5480" y="15228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o-Back-n, Lost 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616040"/>
            <a:ext cx="6801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1800" y="0"/>
            <a:ext cx="60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lective-Reject, Damaged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355760"/>
            <a:ext cx="72025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19000" y="2057400"/>
            <a:ext cx="7944120" cy="294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28320" y="487440"/>
            <a:ext cx="49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Flow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5880" y="1120680"/>
            <a:ext cx="7367400" cy="543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22280" y="22860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-and-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6800" y="2389320"/>
            <a:ext cx="7732800" cy="157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2880" y="487440"/>
            <a:ext cx="29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liding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6720" y="2014560"/>
            <a:ext cx="7257960" cy="270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6840" y="487440"/>
            <a:ext cx="42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nder Sliding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2000" y="1833480"/>
            <a:ext cx="7285320" cy="266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6120" y="487440"/>
            <a:ext cx="45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ceiver Sliding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60240"/>
            <a:ext cx="7870680" cy="581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0480" y="76320"/>
            <a:ext cx="50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of Sliding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7360" y="2459160"/>
            <a:ext cx="8528040" cy="317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4640" y="71604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Err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0720" y="15228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-and-Wait ARQ, Damaged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3280" y="900000"/>
            <a:ext cx="7075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9:16:30Z</dcterms:modified>
  <cp:revision>27</cp:revision>
  <dc:subject/>
  <dc:title>PowerPoint Presentation</dc:title>
</cp:coreProperties>
</file>