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1972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46840" y="2016000"/>
            <a:ext cx="768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Medium Acces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Method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83720" y="380880"/>
            <a:ext cx="39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sistenc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3800" y="1606680"/>
            <a:ext cx="80964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18000" y="30492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npersisten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7280" y="1371600"/>
            <a:ext cx="8029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4040" y="3049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-Persistent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43040" y="1576440"/>
            <a:ext cx="5856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6680" y="380880"/>
            <a:ext cx="6180120" cy="6181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8840" y="457200"/>
            <a:ext cx="228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-Per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2400" y="246240"/>
            <a:ext cx="7165800" cy="5925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9440" y="76212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SMA/CD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78000" y="49320"/>
            <a:ext cx="4680000" cy="650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5280" y="457200"/>
            <a:ext cx="218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SMA/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3480" y="3049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Passing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28560" y="1787400"/>
            <a:ext cx="788688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50840" y="609480"/>
            <a:ext cx="6645240" cy="5727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00" y="762120"/>
            <a:ext cx="34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ssing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418480" y="48744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dium Access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4760" y="2330280"/>
            <a:ext cx="6054480" cy="21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2880" y="587520"/>
            <a:ext cx="67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volution of Random Access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080" y="2147760"/>
            <a:ext cx="8835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57760" y="587520"/>
            <a:ext cx="32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OH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6280" y="2014560"/>
            <a:ext cx="87854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5823000" cy="581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8760" y="609480"/>
            <a:ext cx="418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re ALOHA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99840" y="0"/>
            <a:ext cx="418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ulnerable Tim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re ALOHA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51040" y="1822320"/>
            <a:ext cx="7440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9720" y="304920"/>
            <a:ext cx="46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lotted ALOH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091120" cy="6089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1720" y="457200"/>
            <a:ext cx="457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dur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lotted ALOHA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160" y="7160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56400" y="304920"/>
            <a:ext cx="457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ulnerable Tim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lotted ALOHA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34960" y="1908000"/>
            <a:ext cx="627408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8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520" y="457200"/>
            <a:ext cx="34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ision in C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7840" y="1228680"/>
            <a:ext cx="81626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8:45:01Z</dcterms:modified>
  <cp:revision>38</cp:revision>
  <dc:subject/>
  <dc:title>PowerPoint Presentation</dc:title>
</cp:coreProperties>
</file>