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640" y="763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950560" y="762120"/>
            <a:ext cx="372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ogical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in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Contro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9800" y="152280"/>
            <a:ext cx="585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connection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-Oriented 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308320"/>
            <a:ext cx="79250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0492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2001960"/>
            <a:ext cx="67676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6680" y="60948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9560" y="3166920"/>
            <a:ext cx="71848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53480" y="152280"/>
            <a:ext cx="30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SAP and S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03320" y="1297080"/>
            <a:ext cx="7137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240" y="2588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trol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6560" y="1620720"/>
            <a:ext cx="821088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63520" y="76320"/>
            <a:ext cx="56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 Used in Unacknowled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les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1882800"/>
            <a:ext cx="79250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99240" y="76320"/>
            <a:ext cx="53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s Used in Acknowled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les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477800"/>
            <a:ext cx="79250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3600" y="76320"/>
            <a:ext cx="451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 Used in Connecti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62120"/>
            <a:ext cx="79250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25680" y="808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0240" y="76320"/>
            <a:ext cx="50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 Used in Data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887480"/>
            <a:ext cx="79250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0720" y="763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iggyb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99864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847240" y="304920"/>
            <a:ext cx="34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EE  802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3240" y="1930320"/>
            <a:ext cx="6758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9040" y="7632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DUs Used in Dis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6640" y="1482840"/>
            <a:ext cx="80107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24640" y="716040"/>
            <a:ext cx="44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exing Using 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5440" y="2476440"/>
            <a:ext cx="84376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840" y="4572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ept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8200" y="1935000"/>
            <a:ext cx="86472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2400" y="152280"/>
            <a:ext cx="49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LLC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0680" y="1111320"/>
            <a:ext cx="81626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8040" y="152280"/>
            <a:ext cx="69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Transfer Using Unacknowled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less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2190600"/>
            <a:ext cx="7678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2960" y="152280"/>
            <a:ext cx="651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Transfer Using Acknowled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less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2327400"/>
            <a:ext cx="7914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3800" y="152280"/>
            <a:ext cx="585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-Oriented 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4800" y="2327400"/>
            <a:ext cx="79344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9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3800" y="152280"/>
            <a:ext cx="585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Transfer 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nection-Oriented 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93720" y="2687760"/>
            <a:ext cx="77551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18:19Z</dcterms:modified>
  <cp:revision>29</cp:revision>
  <dc:subject/>
  <dc:title>PowerPoint Presentation</dc:title>
</cp:coreProperties>
</file>