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31120" y="21924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179440" y="1995480"/>
            <a:ext cx="4588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Ethernet:</a:t>
            </a:r>
            <a:br>
              <a:rPr sz="8800"/>
            </a:b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10 Mbp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26680" y="76320"/>
            <a:ext cx="33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ximum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14360" y="1830240"/>
            <a:ext cx="83138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2640" y="22860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hysica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80960" y="1387440"/>
            <a:ext cx="818208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54120" y="1522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07880" y="1832040"/>
            <a:ext cx="83552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58600" y="228600"/>
            <a:ext cx="26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UI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05040" y="1011240"/>
            <a:ext cx="770544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76320"/>
            <a:ext cx="27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gnals in A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3080" y="1149480"/>
            <a:ext cx="845640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57920" y="763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UI Conn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3960" y="1530360"/>
            <a:ext cx="83091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66960" y="106200"/>
            <a:ext cx="204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UI 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98480" y="2187720"/>
            <a:ext cx="754560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28600" y="152280"/>
            <a:ext cx="347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U (transceiv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70000" y="1066680"/>
            <a:ext cx="698328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59840" y="639720"/>
            <a:ext cx="77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tegories of 10-Mbps, Baseband Ether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35040" y="2271600"/>
            <a:ext cx="607392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880" y="685800"/>
            <a:ext cx="280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n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f a S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d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ing 10Base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16360" y="528480"/>
            <a:ext cx="592272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-360" y="457200"/>
            <a:ext cx="2261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ced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c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th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10-Mbp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57480" y="176040"/>
            <a:ext cx="6032520" cy="63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06280" y="152280"/>
            <a:ext cx="38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gments in 10Base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7960" y="2098800"/>
            <a:ext cx="88297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81080" y="317520"/>
            <a:ext cx="6370920" cy="6159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2800" y="685800"/>
            <a:ext cx="2273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n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f St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d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Base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66560" y="152280"/>
            <a:ext cx="38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gments in 10Bas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320" y="2098800"/>
            <a:ext cx="88297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5040" y="609480"/>
            <a:ext cx="7705440" cy="5765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18840" y="76320"/>
            <a:ext cx="2908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n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f St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d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ing 10Base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0" y="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600" y="685800"/>
            <a:ext cx="2273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n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f  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d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Base-F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51160" y="460440"/>
            <a:ext cx="535644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7920" y="152280"/>
            <a:ext cx="51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yers in 10-Mbps 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59080" y="957240"/>
            <a:ext cx="6225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62960" y="106200"/>
            <a:ext cx="34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802.3 MAC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2360" y="2567160"/>
            <a:ext cx="873936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960" y="533520"/>
            <a:ext cx="77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thernet Address in Hexadecimal No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14680" y="2962440"/>
            <a:ext cx="571320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0480" y="152280"/>
            <a:ext cx="618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ansmitting an Ethernet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1120" y="1596960"/>
            <a:ext cx="819936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78560" y="838080"/>
            <a:ext cx="552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nicast and Multicast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0600" y="2571840"/>
            <a:ext cx="83613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95160" y="304920"/>
            <a:ext cx="70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lobally and Locally Unique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95360" y="2571840"/>
            <a:ext cx="81532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0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152280"/>
            <a:ext cx="32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inimum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14360" y="1859040"/>
            <a:ext cx="831384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Valued Gateway Client</cp:lastModifiedBy>
  <dcterms:modified xsi:type="dcterms:W3CDTF">2002-03-09T19:19:30Z</dcterms:modified>
  <cp:revision>27</cp:revision>
  <dc:subject/>
  <dc:title>PowerPoint Presentation</dc:title>
</cp:coreProperties>
</file>