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031760" y="1639800"/>
            <a:ext cx="64688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Times New Roman"/>
              </a:rPr>
              <a:t>Ethernet Evolutio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cc"/>
                </a:solidFill>
                <a:latin typeface="Times New Roman"/>
              </a:rPr>
              <a:t>Fa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cc"/>
                </a:solidFill>
                <a:latin typeface="Times New Roman"/>
              </a:rPr>
              <a:t>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cc"/>
                </a:solidFill>
                <a:latin typeface="Times New Roman"/>
              </a:rPr>
              <a:t>Gigabit Ethern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533520"/>
            <a:ext cx="528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mat of the PAUSE 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32000" y="2871720"/>
            <a:ext cx="467856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10560" y="228600"/>
            <a:ext cx="43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yers in Fast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66880" y="1143000"/>
            <a:ext cx="5608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59760" y="30492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Auto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79560" y="1739880"/>
            <a:ext cx="7184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2320" y="304920"/>
            <a:ext cx="61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uto Negotiation Messag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55720" y="2443320"/>
            <a:ext cx="74311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3080" y="380880"/>
            <a:ext cx="52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st Ethernet Physica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4720" y="1708200"/>
            <a:ext cx="818208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1720" y="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906480"/>
            <a:ext cx="75326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228600"/>
            <a:ext cx="26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gnals in M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3440" y="1316160"/>
            <a:ext cx="773568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39640" y="228600"/>
            <a:ext cx="28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II Conn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9280" y="1312920"/>
            <a:ext cx="758664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36000" y="152280"/>
            <a:ext cx="200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II 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2240" y="2187720"/>
            <a:ext cx="749772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2720" y="152280"/>
            <a:ext cx="560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st Ethernet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89120" y="1573200"/>
            <a:ext cx="75643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328120" y="587520"/>
            <a:ext cx="42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aring the Band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70120" y="609480"/>
            <a:ext cx="5621400" cy="565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6520" y="228600"/>
            <a:ext cx="35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aring Band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4680" y="685800"/>
            <a:ext cx="7705440" cy="5757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942880" y="990720"/>
            <a:ext cx="296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Base-T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9880" y="380880"/>
            <a:ext cx="69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coding and Decoding in 100Base-T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3120" y="1870200"/>
            <a:ext cx="81900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360" y="152280"/>
            <a:ext cx="26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LT-3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6120" y="1658880"/>
            <a:ext cx="84106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6120" y="453960"/>
            <a:ext cx="5411880" cy="6251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90600" y="228600"/>
            <a:ext cx="296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Base-F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0920" y="587520"/>
            <a:ext cx="69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coding and Decoding in 100Base-F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85880" y="1984320"/>
            <a:ext cx="73674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76280" y="304920"/>
            <a:ext cx="30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RZ-I 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8840" y="1968480"/>
            <a:ext cx="84279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60280" y="30240"/>
            <a:ext cx="51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Base-T4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11520" y="985680"/>
            <a:ext cx="37209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1880" y="22860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8B/6T 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2520" y="2281320"/>
            <a:ext cx="865656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1680" y="25884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ing Four Wires in 100Base-T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04640" y="1386000"/>
            <a:ext cx="8332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2400" y="76320"/>
            <a:ext cx="48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yers in Gigabit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59080" y="957240"/>
            <a:ext cx="6225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89160" y="457200"/>
            <a:ext cx="67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Network with and without a 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1120" y="2638440"/>
            <a:ext cx="84279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21920" y="380880"/>
            <a:ext cx="673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wo Approaches in Gigabit Ethe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dium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36720" y="2232000"/>
            <a:ext cx="727056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84600" y="53352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Frame Using Carrier Extens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0040" y="2057400"/>
            <a:ext cx="8263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6640" y="304920"/>
            <a:ext cx="47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ame Bursting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49440" y="2351160"/>
            <a:ext cx="773244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47440" y="228600"/>
            <a:ext cx="58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igabit Ethernet Physica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0960" y="1654200"/>
            <a:ext cx="81820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2200" y="152280"/>
            <a:ext cx="61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igabit Ethernet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70040" y="1582560"/>
            <a:ext cx="760248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9760" y="15228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0Base-X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25600" y="1062000"/>
            <a:ext cx="62928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77840" y="152280"/>
            <a:ext cx="443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coding in 1000Base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7960" y="1504800"/>
            <a:ext cx="80265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5200" y="152280"/>
            <a:ext cx="51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0Base-T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30360" y="1901880"/>
            <a:ext cx="608328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59440" y="152280"/>
            <a:ext cx="441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coding in 1000Base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4166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81200" y="228600"/>
            <a:ext cx="638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llision Domains in a Nonbridg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Bridged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560600"/>
            <a:ext cx="79167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2480" y="587520"/>
            <a:ext cx="34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witched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728720"/>
            <a:ext cx="70326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5560" y="587520"/>
            <a:ext cx="55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ull-Duplex Switched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2320" y="1833480"/>
            <a:ext cx="783936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28080" y="587520"/>
            <a:ext cx="37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C Contr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0920" y="2428920"/>
            <a:ext cx="50403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1120" y="304920"/>
            <a:ext cx="60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capsulation of a MAC Contr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cket in a MAC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5200" y="2244600"/>
            <a:ext cx="855180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1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84360" y="304920"/>
            <a:ext cx="68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leaving of MAC Control Fra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9720" y="2381400"/>
            <a:ext cx="77421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Valued Gateway Client</cp:lastModifiedBy>
  <dcterms:modified xsi:type="dcterms:W3CDTF">2002-03-09T19:20:49Z</dcterms:modified>
  <cp:revision>35</cp:revision>
  <dc:subject/>
  <dc:title>PowerPoint Presentation</dc:title>
</cp:coreProperties>
</file>