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009880" y="220968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Token Bu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77760" y="587520"/>
            <a:ext cx="31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C Field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8680" y="2076480"/>
            <a:ext cx="8510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5000" y="609480"/>
            <a:ext cx="314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D Field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79480" y="2876400"/>
            <a:ext cx="7383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3440" y="228600"/>
            <a:ext cx="51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ysical Layer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8960" y="1901880"/>
            <a:ext cx="8062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01240" y="457200"/>
            <a:ext cx="761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and Signaling for Carrier Ban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ase Continu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160" y="2422440"/>
            <a:ext cx="858024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1240" y="457200"/>
            <a:ext cx="761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and Signaling for Carrier Ban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ase 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160" y="2346480"/>
            <a:ext cx="858024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0400" y="457200"/>
            <a:ext cx="70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and Signaling for Broad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2080" y="1986120"/>
            <a:ext cx="86184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8600" y="457200"/>
            <a:ext cx="73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and Signaling for Optical Fi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1160" y="2117880"/>
            <a:ext cx="858024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62480" y="38088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Token Bu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48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2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6920" y="228600"/>
            <a:ext cx="70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Passing in a Token Bu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1239840"/>
            <a:ext cx="54576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2 c and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66920" y="228600"/>
            <a:ext cx="70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Passing in a Token Bus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33560" y="1066680"/>
            <a:ext cx="54579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3120" y="380880"/>
            <a:ext cx="48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ueues for Servic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2044800"/>
            <a:ext cx="571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22480" y="304920"/>
            <a:ext cx="34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920960"/>
            <a:ext cx="8245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7760" y="30492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Bus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90800" y="1530360"/>
            <a:ext cx="51624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47360" y="30492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Bus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0120" y="2638440"/>
            <a:ext cx="79344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2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62720" y="30492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D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79480" y="2876400"/>
            <a:ext cx="7383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cGraw-Hill Higher Education</cp:lastModifiedBy>
  <dcterms:modified xsi:type="dcterms:W3CDTF">2003-05-05T20:35:28Z</dcterms:modified>
  <cp:revision>26</cp:revision>
  <dc:subject/>
  <dc:title>PowerPoint Presentation</dc:title>
</cp:coreProperties>
</file>