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cGrawHill-Italic"/>
              </a:rPr>
              <a:t>McGraw-H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495680" y="65530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cGrawHill-Italic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cGrawHill-Italic"/>
              </a:rPr>
              <a:t>The McGraw-Hill Companies, Inc.,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31120" y="219240"/>
            <a:ext cx="21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2774520" y="1447920"/>
            <a:ext cx="3099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66"/>
                </a:solidFill>
                <a:latin typeface="Times New Roman"/>
              </a:rPr>
              <a:t>Token</a:t>
            </a:r>
            <a:br>
              <a:rPr sz="8800"/>
            </a:br>
            <a:r>
              <a:rPr b="1" i="1" lang="en-US" sz="8800" spc="-1" strike="noStrike">
                <a:solidFill>
                  <a:srgbClr val="ff0066"/>
                </a:solidFill>
                <a:latin typeface="Times New Roman"/>
              </a:rPr>
              <a:t>Ring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3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76760" y="304920"/>
            <a:ext cx="170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C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455920" y="3129120"/>
            <a:ext cx="4232160" cy="59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3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13920" y="22860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D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79800" y="2406600"/>
            <a:ext cx="478296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3-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70640" y="563400"/>
            <a:ext cx="163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S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63840" y="2157480"/>
            <a:ext cx="421488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3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85640" y="152280"/>
            <a:ext cx="25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oken 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30360" y="2838600"/>
            <a:ext cx="6083280" cy="11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3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15240" y="76320"/>
            <a:ext cx="24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bort 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208240" y="2862360"/>
            <a:ext cx="472608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3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48000" y="792000"/>
            <a:ext cx="222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oken 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576440" y="2016000"/>
            <a:ext cx="5989680" cy="28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3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11880" y="152280"/>
            <a:ext cx="350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oken Ring Swi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73120" y="1374840"/>
            <a:ext cx="557532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3-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84040" y="18252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23888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3-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85680" y="152280"/>
            <a:ext cx="335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mbining MA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27200" y="963720"/>
            <a:ext cx="75787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3-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7760" y="792000"/>
            <a:ext cx="175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C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785960" y="2776680"/>
            <a:ext cx="557064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3-1,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056760" y="79200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oken Pa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70160" y="2022480"/>
            <a:ext cx="460368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3-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76720" y="228600"/>
            <a:ext cx="4817880" cy="6261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7040" y="685800"/>
            <a:ext cx="2716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ocedure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rame S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noth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3-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5760" y="685800"/>
            <a:ext cx="2285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ocedure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ra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riginated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e  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708280" y="262080"/>
            <a:ext cx="597852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3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6840" y="1006560"/>
            <a:ext cx="2093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oced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or 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rriv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90920" y="95400"/>
            <a:ext cx="566712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3-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72480" y="152280"/>
            <a:ext cx="620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aising the Current Priority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76720" y="1195560"/>
            <a:ext cx="2590560" cy="51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3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080" y="1189080"/>
            <a:ext cx="261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ow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e Curr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iority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733920" y="257040"/>
            <a:ext cx="421452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3-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0800" y="792000"/>
            <a:ext cx="31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ending a 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084400" y="2467080"/>
            <a:ext cx="497376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3-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5920" y="228600"/>
            <a:ext cx="57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ample of Priority Mecha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4640" y="1752480"/>
            <a:ext cx="779292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3-1,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56760" y="79200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oken Pa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51160" y="2251080"/>
            <a:ext cx="444168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360" y="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3-1,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56760" y="79200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oken Pa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51160" y="2041560"/>
            <a:ext cx="444168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3-1,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56760" y="79200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oken Pa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351160" y="1620720"/>
            <a:ext cx="444168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3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05680" y="30240"/>
            <a:ext cx="13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ay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55680" y="792000"/>
            <a:ext cx="5311800" cy="56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3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43600" y="152280"/>
            <a:ext cx="243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ata Fr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2050920"/>
            <a:ext cx="825516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3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24480" y="792000"/>
            <a:ext cx="16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D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451240" y="2397240"/>
            <a:ext cx="4241520" cy="20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3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73600" y="380880"/>
            <a:ext cx="175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C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22440" y="2781360"/>
            <a:ext cx="429912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04:50:39Z</dcterms:created>
  <dc:creator>Valued Gateway Client</dc:creator>
  <dc:description/>
  <dc:language>en-US</dc:language>
  <cp:lastModifiedBy>McGraw-Hill Higher Education</cp:lastModifiedBy>
  <dcterms:modified xsi:type="dcterms:W3CDTF">2003-05-05T20:38:16Z</dcterms:modified>
  <cp:revision>26</cp:revision>
  <dc:subject/>
  <dc:title>PowerPoint Presentation</dc:title>
</cp:coreProperties>
</file>