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864880" y="1739880"/>
            <a:ext cx="288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ATM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LA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95520" y="228600"/>
            <a:ext cx="4743360" cy="6269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1320" y="1143000"/>
            <a:ext cx="16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tr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8080" y="1522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E Etherne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8760" y="2610000"/>
            <a:ext cx="81817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2440" y="22860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E Token Ring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4520" y="2610000"/>
            <a:ext cx="819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277800" y="22860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M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600" y="1447920"/>
            <a:ext cx="765000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35280" y="2286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re ATM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7600" y="2111400"/>
            <a:ext cx="857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37680" y="152280"/>
            <a:ext cx="34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gacy ATM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5644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3960" y="1071720"/>
            <a:ext cx="8080560" cy="555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24920" y="76320"/>
            <a:ext cx="56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xed Architecture ATM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0120" y="152280"/>
            <a:ext cx="533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ent and Server in  a 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20680" y="1825560"/>
            <a:ext cx="69008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00" y="457200"/>
            <a:ext cx="82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ixed Architecture ATM LAN using 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43280" y="1103400"/>
            <a:ext cx="52196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69480" y="152280"/>
            <a:ext cx="46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ps in LANE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8840" y="958680"/>
            <a:ext cx="75693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4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1600" y="1522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E Fram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84160" y="1239840"/>
            <a:ext cx="737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01:37Z</dcterms:modified>
  <cp:revision>30</cp:revision>
  <dc:subject/>
  <dc:title>PowerPoint Presentation</dc:title>
</cp:coreProperties>
</file>