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53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cGrawHill-Italic"/>
              </a:rPr>
              <a:t>McGraw-H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572000" y="655308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cGrawHill-Italic"/>
              <a:buChar char="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cGrawHill-Italic"/>
              </a:rPr>
              <a:t>The McGraw-Hill Companies, Inc.,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231120" y="219240"/>
            <a:ext cx="21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2417760" y="2057400"/>
            <a:ext cx="43686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0066"/>
                </a:solidFill>
                <a:latin typeface="Times New Roman"/>
              </a:rPr>
              <a:t>Wireless </a:t>
            </a:r>
            <a:br>
              <a:rPr sz="8800"/>
            </a:br>
            <a:r>
              <a:rPr b="1" i="1" lang="en-US" sz="8800" spc="-1" strike="noStrike">
                <a:solidFill>
                  <a:srgbClr val="ff0066"/>
                </a:solidFill>
                <a:latin typeface="Times New Roman"/>
              </a:rPr>
              <a:t>LAN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5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929400" y="152280"/>
            <a:ext cx="106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S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12760" y="1673280"/>
            <a:ext cx="87026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5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006800" y="228600"/>
            <a:ext cx="9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89120" y="1576440"/>
            <a:ext cx="756432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5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060280" y="380880"/>
            <a:ext cx="487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ayers in 802.11 Standar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744640" y="1635120"/>
            <a:ext cx="3654720" cy="35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5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25600" y="304920"/>
            <a:ext cx="428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ime Diagram for DC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42800" y="1177920"/>
            <a:ext cx="825660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5-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98960" y="76320"/>
            <a:ext cx="10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A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62080" y="609480"/>
            <a:ext cx="7815240" cy="58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5-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747800" y="228600"/>
            <a:ext cx="55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xample of Repetition Interv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17600" y="973080"/>
            <a:ext cx="8116920" cy="55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5-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274920" y="304920"/>
            <a:ext cx="274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rame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58840" y="2835360"/>
            <a:ext cx="842796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5-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84600" y="228600"/>
            <a:ext cx="170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C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38040" y="3025800"/>
            <a:ext cx="850104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5-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78320" y="380880"/>
            <a:ext cx="564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ddressing Mechanism: C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22320" y="2467080"/>
            <a:ext cx="729936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5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8320" y="380880"/>
            <a:ext cx="564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ddressing Mechanism: Case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320840" y="1916280"/>
            <a:ext cx="6500880" cy="30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5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403360" y="380880"/>
            <a:ext cx="412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Wireless Trans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25520" y="1996920"/>
            <a:ext cx="6491160" cy="28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5-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78320" y="380880"/>
            <a:ext cx="564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ddressing Mechanism: Case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098720" y="2013120"/>
            <a:ext cx="6946560" cy="42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5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78320" y="380880"/>
            <a:ext cx="564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ddressing Mechanism: Case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050840" y="1720800"/>
            <a:ext cx="704232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5-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83560" y="228600"/>
            <a:ext cx="436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ontrol Fram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11120" y="2209680"/>
            <a:ext cx="842796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5-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88120" y="228600"/>
            <a:ext cx="51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hysical Layer Spec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31640" y="1943280"/>
            <a:ext cx="825516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5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37680" y="228600"/>
            <a:ext cx="344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pread Bandwid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90680" y="801720"/>
            <a:ext cx="8162640" cy="52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5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42640" y="457200"/>
            <a:ext cx="483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pread Spectrum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52480" y="1992240"/>
            <a:ext cx="563724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5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54880" y="792000"/>
            <a:ext cx="119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H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44360" y="1630440"/>
            <a:ext cx="885528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5-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84040" y="792000"/>
            <a:ext cx="11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S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36720" y="2373480"/>
            <a:ext cx="7270560" cy="211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5-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02040" y="152280"/>
            <a:ext cx="520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frared Point-to-Point 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676520" y="1143000"/>
            <a:ext cx="595152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5-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60880" y="457200"/>
            <a:ext cx="420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frared Diffused 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3040" y="1968480"/>
            <a:ext cx="848376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5-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20360" y="228600"/>
            <a:ext cx="22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SM Band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01760" y="2614680"/>
            <a:ext cx="8208720" cy="13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5T04:50:39Z</dcterms:created>
  <dc:creator>Valued Gateway Client</dc:creator>
  <dc:description/>
  <dc:language>en-US</dc:language>
  <cp:lastModifiedBy>Valued Gateway Client</cp:lastModifiedBy>
  <dcterms:modified xsi:type="dcterms:W3CDTF">2002-03-09T19:02:54Z</dcterms:modified>
  <cp:revision>22</cp:revision>
  <dc:subject/>
  <dc:title>PowerPoint Presentation</dc:title>
</cp:coreProperties>
</file>