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31120" y="21924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451880" y="1816200"/>
            <a:ext cx="6198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LAN</a:t>
            </a:r>
            <a:br>
              <a:rPr sz="8800"/>
            </a:b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Performanc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-720" y="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6-1, Part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92320" y="304920"/>
            <a:ext cx="490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ximum Medium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2357280"/>
            <a:ext cx="844704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360" y="0"/>
            <a:ext cx="20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6-1, Part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92320" y="304920"/>
            <a:ext cx="490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ximum Medium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68560" y="2073240"/>
            <a:ext cx="613404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360" y="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6-1, Part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92320" y="304920"/>
            <a:ext cx="490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ximum Medium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84320" y="1430280"/>
            <a:ext cx="697536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6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62400" y="304920"/>
            <a:ext cx="23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se of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&gt;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2040" y="2178000"/>
            <a:ext cx="844704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6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92560" y="457200"/>
            <a:ext cx="23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se of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2201760"/>
            <a:ext cx="844704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6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92560" y="228600"/>
            <a:ext cx="23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se of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9000" y="2201760"/>
            <a:ext cx="88027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6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7800" y="228600"/>
            <a:ext cx="76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verage Unsuccessful Time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lots before Getting a Successful Time S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0560" y="2633760"/>
            <a:ext cx="702288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Valued Gateway Client</cp:lastModifiedBy>
  <dcterms:modified xsi:type="dcterms:W3CDTF">2002-03-09T19:03:52Z</dcterms:modified>
  <cp:revision>31</cp:revision>
  <dc:subject/>
  <dc:title>PowerPoint Presentation</dc:title>
</cp:coreProperties>
</file>