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175280" y="243828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676520" y="1600200"/>
            <a:ext cx="5648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Times New Roman"/>
              </a:rPr>
              <a:t>Connecting</a:t>
            </a:r>
            <a:br>
              <a:rPr sz="8800"/>
            </a:br>
            <a:r>
              <a:rPr b="1" lang="en-US" sz="8800" spc="-1" strike="noStrike">
                <a:solidFill>
                  <a:srgbClr val="ff0066"/>
                </a:solidFill>
                <a:latin typeface="Times New Roman"/>
              </a:rPr>
              <a:t>LA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9120" y="1219320"/>
            <a:ext cx="8666280" cy="506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19960" y="304920"/>
            <a:ext cx="31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ltiport 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27040" y="1494000"/>
            <a:ext cx="8236080" cy="4678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16080" y="5634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Router in the 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8109000" cy="4097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1040" y="43488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uters in an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0720" y="1417680"/>
            <a:ext cx="8236080" cy="4678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24480" y="533520"/>
            <a:ext cx="52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Gateway in the 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1600" y="2533680"/>
            <a:ext cx="8637480" cy="2190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46640" y="79200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7277400" cy="568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83120" y="0"/>
            <a:ext cx="416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ngle-Protocol vers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ltiprotocol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7871040" cy="5997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430040" y="1062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23920" y="1143000"/>
            <a:ext cx="6800760" cy="4991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10600" y="25884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0040" y="1749600"/>
            <a:ext cx="8034480" cy="2974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1400" y="43488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ng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4720" y="1981080"/>
            <a:ext cx="8182080" cy="278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1640" y="71604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ng Devices and the 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720" y="1417680"/>
            <a:ext cx="8236080" cy="4678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5200" y="434880"/>
            <a:ext cx="52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Repeater in the 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8840" y="1841400"/>
            <a:ext cx="8427960" cy="349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28640" y="43488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Rep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200" y="1765440"/>
            <a:ext cx="8885520" cy="379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58360" y="4348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ction of a Rep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720" y="1417680"/>
            <a:ext cx="8236080" cy="46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08800" y="434880"/>
            <a:ext cx="48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Bridge in the 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0040" y="1914480"/>
            <a:ext cx="7805880" cy="4105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29360" y="86832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9520" y="1425600"/>
            <a:ext cx="8629560" cy="4594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88040" y="434880"/>
            <a:ext cx="37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ction of a 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04:53Z</dcterms:modified>
  <cp:revision>33</cp:revision>
  <dc:subject/>
  <dc:title>PowerPoint Presentation</dc:title>
</cp:coreProperties>
</file>