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55080" y="2376360"/>
            <a:ext cx="37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CP/I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5400" y="5634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Network with Two Levels of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45440" cy="36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83880" y="563400"/>
            <a:ext cx="7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Network with Three Levels of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06520" y="1427040"/>
            <a:ext cx="6060960" cy="4973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86400" y="533520"/>
            <a:ext cx="70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es with and without Subn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62640" cy="528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3400" y="15228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s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3840" y="1184400"/>
            <a:ext cx="6097680" cy="529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39360" y="1062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546200"/>
            <a:ext cx="8491320" cy="4930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23720" y="15228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or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4800" y="1822320"/>
            <a:ext cx="8656920" cy="389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38800" y="56340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 Datagram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9280" y="1670040"/>
            <a:ext cx="7586640" cy="465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77160" y="45720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 Segmen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5600" y="1720800"/>
            <a:ext cx="8583480" cy="2392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06360" y="21420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Pv6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8120" y="1801800"/>
            <a:ext cx="826776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97600" y="30492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breviated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1440" y="1981080"/>
            <a:ext cx="8308800" cy="317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3240" y="56340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 Internet According to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3480" y="1954080"/>
            <a:ext cx="5477040" cy="294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716040"/>
            <a:ext cx="60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breviation with Consecutive 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46160" y="2001960"/>
            <a:ext cx="5249880" cy="2854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28320" y="68580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rtia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1840" y="2263680"/>
            <a:ext cx="8683560" cy="1630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15480" y="63972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2120" y="1219320"/>
            <a:ext cx="8693280" cy="390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8480" y="214200"/>
            <a:ext cx="44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vider-Based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1840" y="1911240"/>
            <a:ext cx="8683560" cy="212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54360" y="41112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7960" y="2173320"/>
            <a:ext cx="8666280" cy="251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51720" y="609480"/>
            <a:ext cx="28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Pv6 Dat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20200" cy="4241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91880" y="152280"/>
            <a:ext cx="52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at of an IPv6 Dat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8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88440" y="22860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tension Header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97000" y="762120"/>
            <a:ext cx="6748560" cy="412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33520"/>
            <a:ext cx="328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tension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2080" y="2343240"/>
            <a:ext cx="8501040" cy="162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41600" y="609480"/>
            <a:ext cx="56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arison of Network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Version 4 and Version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0640" y="990720"/>
            <a:ext cx="5676840" cy="52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83320" y="7632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/IP and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3640" y="2163600"/>
            <a:ext cx="7954920" cy="253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914400"/>
            <a:ext cx="53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ICMP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2263680"/>
            <a:ext cx="8610840" cy="163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4640" y="990720"/>
            <a:ext cx="64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Error-Report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3040" y="2208240"/>
            <a:ext cx="8712360" cy="18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0666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Query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85920" y="1062000"/>
            <a:ext cx="7020000" cy="541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3160" y="15228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P Dat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6960" y="1676520"/>
            <a:ext cx="7989840" cy="2931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39840" y="56340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8120" y="1905120"/>
            <a:ext cx="8400960" cy="280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01720" y="56340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" y="2438280"/>
            <a:ext cx="8391240" cy="1677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83640" y="563400"/>
            <a:ext cx="60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P Addresses in Decimal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9320" y="990720"/>
            <a:ext cx="7550280" cy="55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3960" y="182520"/>
            <a:ext cx="63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 Ranges of Interne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8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8400" y="1066680"/>
            <a:ext cx="6389640" cy="5308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79720" y="10620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and Host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6:09Z</dcterms:modified>
  <cp:revision>26</cp:revision>
  <dc:subject/>
  <dc:title>PowerPoint Presentation</dc:title>
</cp:coreProperties>
</file>