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06040" y="1295280"/>
            <a:ext cx="51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0066"/>
                </a:solidFill>
                <a:latin typeface="Times New Roman"/>
              </a:rPr>
              <a:t>Da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0066"/>
                </a:solidFill>
                <a:latin typeface="Times New Roman"/>
              </a:rPr>
              <a:t>Encryp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33920" y="2286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4487760" cy="533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129440" cy="429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93480" y="22860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lusive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5200" y="2354400"/>
            <a:ext cx="8620200" cy="244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0560" y="56340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0600" y="1305000"/>
            <a:ext cx="8372520" cy="34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59040" y="3049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55680" y="1295280"/>
            <a:ext cx="4626000" cy="508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7920" y="15228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bkey Generation i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6040" y="152280"/>
            <a:ext cx="4570560" cy="640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92240" y="228600"/>
            <a:ext cx="250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e of the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s i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818208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70680" y="228600"/>
            <a:ext cx="41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blic Key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2562120"/>
            <a:ext cx="8829720" cy="179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3440" y="380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440" y="1606680"/>
            <a:ext cx="7769160" cy="471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6040" y="41112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SA Encryption and De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9440" y="2303640"/>
            <a:ext cx="8958240" cy="3335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0000" y="56340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curity of 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0600" y="2168640"/>
            <a:ext cx="8372520" cy="255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0" y="716040"/>
            <a:ext cx="694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ept of Encryption and De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6160" y="1901880"/>
            <a:ext cx="8692920" cy="2975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2760" y="380880"/>
            <a:ext cx="45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gnature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3120" y="1870200"/>
            <a:ext cx="7157880" cy="293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4320" y="79200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ryption/Decryp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19400"/>
            <a:ext cx="8354880" cy="22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46080" y="716040"/>
            <a:ext cx="52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noalphabetic Sub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7360" y="1887480"/>
            <a:ext cx="818172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66600" y="1096920"/>
            <a:ext cx="49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olyalphabetic Sub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680" y="1598760"/>
            <a:ext cx="8793000" cy="320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26080" y="56340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nspositional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6800" y="1595520"/>
            <a:ext cx="7157880" cy="4576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5800" y="304920"/>
            <a:ext cx="35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/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2014560"/>
            <a:ext cx="8372520" cy="278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96000" y="5634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076400"/>
            <a:ext cx="4589640" cy="524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228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9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6:55Z</dcterms:modified>
  <cp:revision>27</cp:revision>
  <dc:subject/>
  <dc:title>PowerPoint Presentation</dc:title>
</cp:coreProperties>
</file>