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6400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388160" y="1754280"/>
            <a:ext cx="6266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Network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Managemen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12800" y="1873080"/>
            <a:ext cx="7440480" cy="2490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1640" y="228600"/>
            <a:ext cx="21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2240" y="1335240"/>
            <a:ext cx="8646840" cy="3770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21200" y="457200"/>
            <a:ext cx="42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ceptual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8640" y="2438280"/>
            <a:ext cx="7688160" cy="1925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665080" y="457200"/>
            <a:ext cx="324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coding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7800" y="2077920"/>
            <a:ext cx="8226720" cy="1892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74920" y="4572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ngth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34880" y="2610000"/>
            <a:ext cx="8328240" cy="1145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15920" y="457200"/>
            <a:ext cx="40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1, Integer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8720" y="2581200"/>
            <a:ext cx="7477200" cy="1355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10280" y="457200"/>
            <a:ext cx="45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2, String (“HI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2376360"/>
            <a:ext cx="8821800" cy="1473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45640" y="609480"/>
            <a:ext cx="62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3, ObjectIdentifier 1.3.6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9920" y="2376360"/>
            <a:ext cx="8821800" cy="1471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93360" y="609480"/>
            <a:ext cx="62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4, IP Address 131.21.14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20840" y="1768320"/>
            <a:ext cx="8418240" cy="2325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88000" y="609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8880" y="1530360"/>
            <a:ext cx="7851600" cy="4260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504600" y="304920"/>
            <a:ext cx="22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 group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976040" y="258840"/>
            <a:ext cx="56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eas of Network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71600" y="2214720"/>
            <a:ext cx="80629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00280" y="919080"/>
            <a:ext cx="6535800" cy="5634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22400" y="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dp Variables And Tab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16080" y="1173240"/>
            <a:ext cx="8447040" cy="4236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13160" y="304920"/>
            <a:ext cx="39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exes for ud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6840" y="852480"/>
            <a:ext cx="8410320" cy="5396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71800" y="76320"/>
            <a:ext cx="30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NMP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3360" y="963720"/>
            <a:ext cx="7778520" cy="551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5600" y="152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NMP Messag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7440" y="457200"/>
            <a:ext cx="6883560" cy="5973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022240" y="0"/>
            <a:ext cx="127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ing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5959440" cy="587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00440" y="3581280"/>
            <a:ext cx="221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t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29400" y="228600"/>
            <a:ext cx="50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95520" y="1819440"/>
            <a:ext cx="59515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41040" y="228600"/>
            <a:ext cx="34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ul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95520" y="1819440"/>
            <a:ext cx="59515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87680" y="304920"/>
            <a:ext cx="39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erformance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5640" y="1814400"/>
            <a:ext cx="817272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4440" y="1173240"/>
            <a:ext cx="8400960" cy="406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23360" y="228600"/>
            <a:ext cx="28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NMP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4680" y="1859040"/>
            <a:ext cx="8564400" cy="2419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3120" y="228600"/>
            <a:ext cx="476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320" y="1859040"/>
            <a:ext cx="8894520" cy="251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2280" y="228600"/>
            <a:ext cx="324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bject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27200" y="328680"/>
            <a:ext cx="5548320" cy="6072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086960" y="228600"/>
            <a:ext cx="183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920" y="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 20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McGraw-Hill Higher Education</cp:lastModifiedBy>
  <dcterms:modified xsi:type="dcterms:W3CDTF">2003-05-05T20:46:28Z</dcterms:modified>
  <cp:revision>19</cp:revision>
  <dc:subject/>
  <dc:title>PowerPoint Presentation</dc:title>
</cp:coreProperties>
</file>