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9C0-7533-4CE9-A176-F509C0C4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59B-8D02-48B7-BFE5-2170C81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D52-CF16-4219-812C-8ECAB0FA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40D-DE5C-4281-8C4E-018F1E53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FF1C-F779-431B-AD08-2FCFDB50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04E-3577-487F-BF15-AF6F4BF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6EDE-6D46-4D32-A214-CF287F0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9554-D349-4FDC-BF84-D923234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030D-EE42-44E0-9F32-FBA9F3AC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A63-7A01-4675-8C77-193C2F43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486-18B1-44A3-BD9E-2F4A5AA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CA9-622F-4955-B776-DA68020D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D28D-0308-440D-BC0D-14BEFB9D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F1C-B868-4DC2-9397-12846DA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1F0-A98D-461A-8AF0-79679AF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0F3-F2F5-4EE9-A318-D2D974A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B29-EE14-4D96-A084-A56A4FD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9CF-C273-4071-A51B-3AD82A2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891-B185-48AD-8A08-E65272E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DF8-C443-4F32-9DE4-4A396E5D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C0B-E696-4BAD-838A-C742080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025-1681-4781-AB46-20CD979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FEB-064E-4455-BEE1-074E9BD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CC8-8DF5-4F81-BFDC-6011913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1DE-E5BD-4DF2-B137-CD71BE6D02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1B5-585C-4583-B335-21AD009A2A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EGURIDAD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300720" y="4220640"/>
            <a:ext cx="25243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iguel Ángel Galin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ranks Edison Gonzál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ría del Pilar Yus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ENTICACIÓN POR IRI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tualmente, la Banca está mostrando gran interés en incorporar dicha técnica a sus cajeros automátic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 empieza a implantar esta técnica en diversos aeropuertos para agilizar las comprobaciones de seguridad y determinar si realmente  es la persona que compró el bil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NI ELECTRÓNICO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 DNI electrónico, además de la capacidad de identificación física de su titular, posee la capacidad de identificación en medios telemáticos y de firmar electrónicamente como si de una forma manuscrita se tratase. De esta forma garantiza que la personalidad del firmante no es suplantada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NI ELECTRÓNICO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l chip criptográfico contiene la siguiente información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certificado electrónico para autenticar la personalidad del ciudadan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certificado electrónico para firmar electrónicamente, con la misma validez jurídica que la firma manuscrit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rtificado de la Autoridad de Certificación emis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aves para su utiliza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plantilla biométrica de la impresión dactil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fotografía digitalizada del ciudadan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imagen digitalizada de la firma manuscrita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tos de la filiación del ciudadano, correspondientes con el contenido personalizado en la tarje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NI ELECTRÓNICO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a utilizar el DNI electrónico se requiere un lector de tarjetas inteligentes que cumpla el estándar ISO-7816, pudiendo ser integrado en el teclado o bien exter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NI ELECTRÓNICO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gunas entidades bancarias lo utilizan para que sus clientes puedan acceder a sus cuentas a través de Internet sin necesidad de contraseñas ni de otros datos de acceso y sin el riesgo de que te las puedan robar a través de la 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Universidad de Zaragoza nos permite utilizarlo para recordar nuestro NIP y contraseñ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METRÍA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iometrí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es el estudio de métodos automáticos para el reconocimiento único de humanos basados en rasgos físic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utentificación biométrica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se refiere a las tecnologías para medir y analizar las características físicas y del comportamiento humanas con propósito de autenticació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METRÍA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erentes características de los sistemas biométric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7593" t="42708" r="29967" b="30425"/>
          <a:stretch/>
        </p:blipFill>
        <p:spPr>
          <a:xfrm>
            <a:off x="1835280" y="2924280"/>
            <a:ext cx="571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METRÍA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Estándares asociados a tecnologías biométr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Estándar ANSI X.9.84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: define las condiciones de los sistemas biométricos para la industria de servicios financieros, y la seguridad del hardware asoc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Estándar ANSI / INCITS 358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: presenta una interfaz de programación de aplicación que garantiza que los productos y sistemas que cumplen este estándar son interoperables entre sí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Estándar NISTIR 6529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: propone un formato estandarizado para el intercambio de información biométr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METRÍA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ándar ANSI 378  /  ISO 1979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establece criterios para representar e intercambiar la información de las huellas dactilares a través del uso de minucias. El propósito de esta norma es que un sistema biométrico dactilar pueda realizar procesos de verificación de identidad e identificación, empleando información biométrica proveniente de otros siste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ándar PIV-071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reado por el NIST y el FBI, establece los criterios de calidad de imagen que deben cumplir los lectores de huellas dactilares para poder ser usados en procesos de verificación de identidad en agencias feder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UELLAS DACTILARE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uella dactila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uella digit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es la impresión que produce el contacto de las crestas papilares de un dedo de la mano sobre una superficie. Se utiliza como medio de identificación de person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UELLAS DACTILARE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la actualidad se utilizan en dispositivos portátiles para que los usuarios no tengan que recordar los datos de acceso, para evitar que nadie suplante su identi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algunos lugares de trabajo se utiliza para la identificación de sus trabajadores, a la entrada y a la salida de sus turn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4221000"/>
            <a:ext cx="2016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UELLAS DACTILARE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usencia de huellas dactila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xiste una enfermedad denominada </a:t>
            </a: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adermatoglifia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que consiste en la ausencia de </a:t>
            </a: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huellas dactilares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en manos, dedos y plantas de los pies desde el nacimiento. Es una enfermedad genética, debida a una mutación en un gen de la piel denominado SMARCAD1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ENTICACIÓN POR IRI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étodo de autenticación muy seguro debido a que cada persona tiene un iris único. Se considera más seguro que la huella dactilar, reconocimiento de voz… ya que no le afectan agentes extern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5:19:47Z</dcterms:created>
  <dc:creator>alumno</dc:creator>
  <dc:description/>
  <dc:language>en-US</dc:language>
  <cp:lastModifiedBy>Mapi</cp:lastModifiedBy>
  <dcterms:modified xsi:type="dcterms:W3CDTF">2012-01-24T08:24:00Z</dcterms:modified>
  <cp:revision>12</cp:revision>
  <dc:subject/>
  <dc:title>SEGURIDAD.</dc:title>
</cp:coreProperties>
</file>